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00ACB-342A-4936-8DC1-764AFE8C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E4EE1-3A9D-4D81-9F4A-6876ABFF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BE87B-73CF-422F-A4F7-0795CD8F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BCBE6-64E3-4DBF-B7E9-F1D129FC8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3C3C0-065E-468C-A4F2-CC8840728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5A181-3EBD-44D1-B893-18F494C3E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3E11B-4324-4048-B9D1-097C2D6C6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74523-62CE-42CA-831F-36307CD51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806C4-1364-4BC4-A5F0-EEE7D5232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16B2C-3EF3-4C8C-8264-1A0D2595D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9E6D7-D5BC-4B27-88B6-56E81340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DBA8-6A93-4BBA-9E71-035E7652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1A2D-C6B2-43FC-90DA-148E4CF93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E99F-D30C-40AE-B768-17D05A30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3191B-6A75-4800-9EA8-B82800C69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76B1B-38DF-4272-8D84-26ADE4746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4AA09-CA2A-441A-BEE0-84B36FCE4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F5D6-4680-4C3F-9EBC-71B5680B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0697-B3DA-48A9-910C-62CC04019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F6B7B-E03F-4770-8C4E-3339A87F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60F1-3E9B-40B9-9F65-0CB10E51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3F35-2A66-4B91-B231-EC65DA76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2EFA-50BF-448A-A059-9B35547B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7189-EA3D-486C-B5DD-16C8814A6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2C4F-6953-46ED-AE06-1B817297D6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lick to edit the title text format</a:t>
            </a:r>
            <a:endParaRPr b="1"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01AC-638C-4BA2-9CCE-02946F2F43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opyright, Fair Use &amp; Plagiarism</a:t>
            </a:r>
            <a:endParaRPr b="1"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57200"/>
            <a:ext cx="86868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400" spc="-1" strike="noStrike">
                <a:solidFill>
                  <a:srgbClr val="ffffff"/>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8.  A teacher gets clip art and music from popular file-sharing sites, then creates a lesson plan and posts it on the school Web site to share with other teachers.  This is permissib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240"/>
            <a:ext cx="8686800" cy="6629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9.  A student tries to digitize the shower scene from a rented copy of Psycho into a “History of Horror” report.  Her computer won’t do it.  The movie happens to be on an NBC station that week, so the teacher tapes it and then digitizes it on the computer for her.  This is fair us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0.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1.  On Back-to-School night, an elementary school offers child care for students’ younger siblings.  They put the kids in the library and show them Disney VHS tapes bought by the PTA.  This is permissib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2.  A teacher makes a compilation of movie clips from various VHS tapes to use in his classroom as lesson starters.  This is covered under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520" y="53316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3.  A number of students take digital pictures of local streets and businesses for their Web projects.  These are permissible to post onlin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4.  A high school video class produces a DVD yearbook that includes the year’s top ten music hits as background music.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pyright</a:t>
            </a:r>
            <a:endParaRPr b="1" lang="en-US" sz="4400" spc="-1" strike="noStrike">
              <a:solidFill>
                <a:srgbClr val="ffff99"/>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roperty right attached to an original work of art or literature.</a:t>
            </a:r>
            <a:endParaRPr b="0" lang="en-US" sz="4000" spc="-1" strike="noStrike">
              <a:solidFill>
                <a:srgbClr val="ffffff"/>
              </a:solidFill>
              <a:latin typeface="Arial"/>
            </a:endParaRPr>
          </a:p>
          <a:p>
            <a:pPr marL="343080" indent="-343080">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ants the author or creator exclusive rights to reproduce, distribute, adapt, perform, or display the protected 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685440"/>
            <a:ext cx="8077320" cy="5791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5.  Last year, a school’s science fair multimedia CD-ROM was so popular everyone wanted a copy of it.  Everything in it was copied under fair use guidelines.  It’s permissible for the school to sell copies to recover the costs of reprodu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Quiz Answers</a:t>
            </a:r>
            <a:endParaRPr b="1" lang="en-US" sz="4400" spc="-1" strike="noStrike">
              <a:solidFill>
                <a:srgbClr val="ffff99"/>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447920"/>
            <a:ext cx="82296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should we be concerned about copyright?</a:t>
            </a:r>
            <a:endParaRPr b="1"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lagiarism</a:t>
            </a:r>
            <a:endParaRPr b="1"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presentation of words or ideas from an existing source as if they were your own wor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ategories of Plagiarism</a:t>
            </a:r>
            <a:endParaRPr b="1"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pying directly from another source without quotation marks or a footno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ing a few words in a passage without using quotation marks or a footno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tting ideas from another source in your own words without using a footno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How can plagiarism be prevented?</a:t>
            </a:r>
            <a:endParaRPr b="1"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itation Machine</a:t>
            </a:r>
            <a:endParaRPr b="1" lang="en-US" sz="5400" spc="-1" strike="noStrike">
              <a:solidFill>
                <a:srgbClr val="ffff99"/>
              </a:solidFill>
              <a:latin typeface="Arial"/>
            </a:endParaRPr>
          </a:p>
        </p:txBody>
      </p:sp>
      <p:sp>
        <p:nvSpPr>
          <p:cNvPr id="188" name="PlaceHolder 2"/>
          <p:cNvSpPr>
            <a:spLocks noGrp="1"/>
          </p:cNvSpPr>
          <p:nvPr>
            <p:ph type="subTitle"/>
          </p:nvPr>
        </p:nvSpPr>
        <p:spPr>
          <a:xfrm>
            <a:off x="456840" y="38862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landmark-project.com/index.p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itation Machine</a:t>
            </a:r>
            <a:endParaRPr b="1"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304920" y="380880"/>
            <a:ext cx="8839080" cy="598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air Use</a:t>
            </a:r>
            <a:endParaRPr b="1" lang="en-US" sz="4400" spc="-1" strike="noStrike">
              <a:solidFill>
                <a:srgbClr val="ffff99"/>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lows use of copyrighted materials for educational purposes such as criticism, comment, news reporting, teaching, scholarship, and researc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actors Determining Fair Use</a:t>
            </a:r>
            <a:endParaRPr b="1" lang="en-US" sz="4400" spc="-1" strike="noStrike">
              <a:solidFill>
                <a:srgbClr val="ffff99"/>
              </a:solidFill>
              <a:latin typeface="Arial"/>
            </a:endParaRPr>
          </a:p>
        </p:txBody>
      </p:sp>
      <p:sp>
        <p:nvSpPr>
          <p:cNvPr id="158" name="PlaceHolder 2"/>
          <p:cNvSpPr>
            <a:spLocks noGrp="1"/>
          </p:cNvSpPr>
          <p:nvPr>
            <p:ph/>
          </p:nvPr>
        </p:nvSpPr>
        <p:spPr>
          <a:xfrm>
            <a:off x="380880" y="1218960"/>
            <a:ext cx="8229600" cy="563868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and character of the use -  nonprofit educational purpose, temporary, spontaneous us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e of the work - factual or artistic, published or nonpublished, out of print</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rtion/extent of the work used - whole or part</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n marketability - most important use should not reduce potential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air Use applies to face to face teaching.</a:t>
            </a:r>
            <a:endParaRPr b="0" lang="en-US" sz="4800" spc="-1" strike="noStrike">
              <a:solidFill>
                <a:srgbClr val="ffffff"/>
              </a:solidFill>
              <a:latin typeface="Arial"/>
            </a:endParaRPr>
          </a:p>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osting copyrighted materials on a web site probably is NOT fair us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pyright Quiz</a:t>
            </a:r>
            <a:endParaRPr b="1" lang="en-US" sz="4400" spc="-1" strike="noStrike">
              <a:solidFill>
                <a:srgbClr val="ffff99"/>
              </a:solidFill>
              <a:latin typeface="Arial"/>
            </a:endParaRPr>
          </a:p>
        </p:txBody>
      </p:sp>
      <p:sp>
        <p:nvSpPr>
          <p:cNvPr id="161" name=""/>
          <p:cNvSpPr/>
          <p:nvPr/>
        </p:nvSpPr>
        <p:spPr>
          <a:xfrm>
            <a:off x="617400" y="6323760"/>
            <a:ext cx="8105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echlearning.com/db_area/archives/TL/2002/10/copyright_quiz.html</a:t>
            </a:r>
            <a:endParaRPr b="0" lang="en-US" sz="1800" spc="-1" strike="noStrike">
              <a:solidFill>
                <a:srgbClr val="ffffff"/>
              </a:solidFill>
              <a:latin typeface="Arial"/>
            </a:endParaRPr>
          </a:p>
        </p:txBody>
      </p:sp>
      <p:sp>
        <p:nvSpPr>
          <p:cNvPr id="162" name=""/>
          <p:cNvSpPr/>
          <p:nvPr/>
        </p:nvSpPr>
        <p:spPr>
          <a:xfrm>
            <a:off x="457200" y="1590840"/>
            <a:ext cx="5715000" cy="169380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swer True or False</a:t>
            </a:r>
            <a:r>
              <a:rPr b="0" lang="en-US" sz="2400" spc="-1" strike="noStrike">
                <a:solidFill>
                  <a:srgbClr val="ffffff"/>
                </a:solidFill>
                <a:latin typeface="Arial"/>
              </a:rPr>
              <a: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
          <p:cNvSpPr/>
          <p:nvPr/>
        </p:nvSpPr>
        <p:spPr>
          <a:xfrm>
            <a:off x="380880" y="2155320"/>
            <a:ext cx="8340840" cy="3750840"/>
          </a:xfrm>
          <a:prstGeom prst="rect">
            <a:avLst/>
          </a:prstGeom>
          <a:noFill/>
          <a:ln w="0">
            <a:noFill/>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A student snaps in half a CD-ROM the teacher really needed for her next class.  The teacher decides to make a copy of all her crucial disks so it never happens again.  This is permissi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 technology coordinator installs the one copy of Photoshop the school owns on a central server so students are able to access it from their classroom workstations.  This is a violation of copyright l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The state mandates technology proficiency for all high school students but adds no money to schools’ software budgets.  To ensure equity, public schools are allowed to buy whatever software they can afford and copy the rest</a:t>
            </a:r>
            <a:r>
              <a:rPr b="0" lang="en-US"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4:24:14Z</dcterms:created>
  <dc:creator>Jane Bratton</dc:creator>
  <dc:description/>
  <dc:language>en-US</dc:language>
  <cp:lastModifiedBy>Jane Bratton</cp:lastModifiedBy>
  <cp:lastPrinted>1904-01-01T00:00:00Z</cp:lastPrinted>
  <dcterms:modified xsi:type="dcterms:W3CDTF">2003-06-17T05:20:25Z</dcterms:modified>
  <cp:revision>6</cp:revision>
  <dc:subject/>
  <dc:title>Copyright, Fair Use &amp; Plagiar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